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24790"/>
        <c:axId val="27686332"/>
      </c:barChart>
      <c:catAx>
        <c:axId val="16924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6332"/>
        <c:crosses val="autoZero"/>
        <c:auto val="1"/>
        <c:lblAlgn val="ctr"/>
        <c:lblOffset val="100"/>
        <c:noMultiLvlLbl val="0"/>
      </c:catAx>
      <c:valAx>
        <c:axId val="27686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4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C71-F90A-4E75-9469-94FA4879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AFB-C36C-44B5-A6FF-A72D542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44A-25D7-4907-B75B-780DD7E0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9E0-9287-4D45-BAA1-6A781646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942-78C3-437E-AA0D-C0C66114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018-014F-431A-88E0-005EF30F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871-4AEC-408C-BCD8-8A94A94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B6D-5815-4C5E-8B8F-6C25F5A8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CF0-E079-482D-A409-7D3827C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F55-B2D3-4A19-82A8-37EDB84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EC7-169E-42C7-B380-E968F8A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5C9-144B-4587-8E17-DC10246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5C60E-9283-494E-8151-F1900B2DA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